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F3E-833E-4234-B47F-51D24625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4AB-490A-4003-87DA-5AF6907E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EFB-508C-47DB-96A4-2C0F4664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2FA-362B-4C58-BAD8-A241AC0C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85B-A6F2-497F-9213-0F4A440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45E-0395-4AF3-BFA5-1C9EA92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B3B-7EF1-4DE5-B139-30A54C58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0B4-B5F1-4AD5-AB50-76400DB3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7DC-C0E0-4C0D-AEEF-5675F5BF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C27-2808-425F-8B5F-B56BEF9F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8CA-447F-4B57-A302-65853437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0B5-7635-47BE-835E-263C6C6D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BF99-0DEF-40C3-99C1-C97F956F9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killed by John 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ved in a log ca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very sm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sixth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d to 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3213360" cy="3980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only president that didn’t live in the Whit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very b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very 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called Father of ou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43800" y="3903840"/>
            <a:ext cx="16002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9680" y="2205000"/>
            <a:ext cx="3643200" cy="244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31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1:17:09Z</dcterms:created>
  <dc:creator>smuser</dc:creator>
  <dc:description/>
  <dc:language>en-US</dc:language>
  <cp:lastModifiedBy>smuser</cp:lastModifiedBy>
  <dcterms:modified xsi:type="dcterms:W3CDTF">2010-02-02T17:05:48Z</dcterms:modified>
  <cp:revision>3</cp:revision>
  <dc:subject/>
  <dc:title>Comparing Presidents</dc:title>
</cp:coreProperties>
</file>